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BEB48-723C-407E-9F80-3865E8879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9873A-9A6C-4AF0-995A-496EEE13BD4F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demiology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. Pneumonia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on in children than in adul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incidence is highest during the cool mont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st commonly associated with viral respiratory dis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EE617-C8B0-4EBF-83D0-CF98C7E12013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on on skin and in oropharyn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.aureu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major pathogen for hu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47EF4-1E4C-418F-8595-0CB95400A4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45CFA-055F-4A8B-AD5C-90F511874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5F58A-CA57-4429-AB50-E701F753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ADF55-425B-4E42-90AE-DF932D992A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79E1D-2EF4-4C1E-9A57-1D17FA727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A6A07-B378-4FF4-A8D4-3BDB1DBFC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36937-0EAB-41FF-905B-0565884C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014C6-2CD5-406E-BB60-B7A40A5C8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14C06-67BC-4DAE-AB71-0DC05C8B5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09212-16B8-4679-B518-90C2E5C61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BE6CD-194B-4DFB-890C-F61F9C07E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32AF3-FD55-438D-9162-065A7E101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4680" y="950760"/>
            <a:ext cx="91551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4A92B-1E88-454A-992A-6B26489137AC}" type="slidenum">
              <a:rPr b="0" lang="en-US" sz="1400" spc="-1" strike="noStrike">
                <a:solidFill>
                  <a:srgbClr val="046ca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36480" y="1114200"/>
            <a:ext cx="7793280" cy="46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病原性球菌</a:t>
            </a:r>
            <a:br>
              <a:rPr sz="54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方正舒体"/>
              </a:rPr>
              <a:t>(pathogenic cocc</a:t>
            </a:r>
            <a:r>
              <a:rPr b="1" lang="en-GB" sz="4800" spc="-1" strike="noStrike">
                <a:solidFill>
                  <a:srgbClr val="000000"/>
                </a:solidFill>
                <a:latin typeface="Arial"/>
                <a:ea typeface="方正舒体"/>
              </a:rPr>
              <a:t>us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方正舒体"/>
              </a:rPr>
              <a:t>)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幼圆"/>
              </a:rPr>
              <a:t> </a:t>
            </a:r>
            <a:br>
              <a:rPr sz="4800"/>
            </a:b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化脓性球菌</a:t>
            </a:r>
            <a:br>
              <a:rPr sz="54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方正舒体"/>
              </a:rPr>
              <a:t>(pyogenic coccus)</a:t>
            </a:r>
            <a:br>
              <a:rPr sz="48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首都医科大学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郑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2600" y="1071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致病性与免疫性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000160" y="2714760"/>
            <a:ext cx="49291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金黄色葡萄球菌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1640" y="10717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主要致病物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837720" y="1865160"/>
            <a:ext cx="744876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3798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侵袭力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菌体表面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PA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侵袭性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凝固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吞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染局限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ts val="3798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毒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细胞毒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皮溶解毒素、溶血素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杀白细胞素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毒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耐热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28800" y="100008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所致主要疾病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857160" y="1928520"/>
            <a:ext cx="74296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ts val="3699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化脓性感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局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皮肤软组织感染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疖、痈、脓疱疮、须疮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全身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败血症、脓毒血症、内脏器官感染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9480" indent="-339480">
              <a:lnSpc>
                <a:spcPts val="3699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毒素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食物中毒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烫伤样皮肤综合征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毒性休克综合征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球菌性肠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9833040" y="13971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86000" y="1143000"/>
            <a:ext cx="640080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二节 链球菌属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42480" y="2133720"/>
            <a:ext cx="7201080" cy="26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广泛分布在自然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动物及人体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链球菌EM图"/>
          <p:cNvPicPr/>
          <p:nvPr/>
        </p:nvPicPr>
        <p:blipFill>
          <a:blip r:embed="rId1"/>
          <a:stretch/>
        </p:blipFill>
        <p:spPr>
          <a:xfrm>
            <a:off x="4140360" y="2421000"/>
            <a:ext cx="4518000" cy="3429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链球菌G"/>
          <p:cNvPicPr/>
          <p:nvPr/>
        </p:nvPicPr>
        <p:blipFill>
          <a:blip r:embed="rId2"/>
          <a:stretch/>
        </p:blipFill>
        <p:spPr>
          <a:xfrm>
            <a:off x="468360" y="1197000"/>
            <a:ext cx="4114800" cy="32958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0000" y="4509720"/>
            <a:ext cx="1838520" cy="14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链球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71320" y="1989000"/>
            <a:ext cx="8001000" cy="43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物学性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染色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G+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卵圆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平板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构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糖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族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蛋白质抗原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面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---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蛋白抗原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抵抗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青霉素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2031840" y="1023840"/>
            <a:ext cx="51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链球菌</a:t>
            </a:r>
            <a:endParaRPr b="0" lang="en-US" sz="4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66560" y="857160"/>
            <a:ext cx="4724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链球菌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28800" y="1642680"/>
            <a:ext cx="7248240" cy="46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型溶血性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条件致病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乙型溶血性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致病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丙型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溶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不致病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5880" indent="-3358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糖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A-H,K-V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族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乙型溶血性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化脓性链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5880" indent="-3358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氧需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兼性厌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乙型溶血性链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厌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菌群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变异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化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45840" y="1050480"/>
            <a:ext cx="5977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致病性与免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857160" y="1785600"/>
            <a:ext cx="74296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37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侵袭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染易扩散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体表面构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TA 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ts val="3798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吞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敏反应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侵袭性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透明质酸酶、链激酶、链道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DN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毒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致热外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素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streptolysin)---SLO, SLS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5120" y="1050840"/>
            <a:ext cx="3987720" cy="67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所致疾病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42920" y="1844280"/>
            <a:ext cx="5834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局部或全身化脓性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扁桃体炎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咽峡炎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鼻窦炎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中耳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丹毒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淋巴管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痈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坏疽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蜂窝组织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产褥热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败血症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毒素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猩红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幼圆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致热外毒素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链球菌毒性休克综合征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超敏反应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急性肾小球肾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风湿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幼圆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发热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非化脓性全心炎及关节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76040" y="857160"/>
            <a:ext cx="504036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肺炎链球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71320" y="1785960"/>
            <a:ext cx="80010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3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生物学性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染色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G+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矛头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脐状菌落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甲型链球菌区别要点：发酵菊糖试验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胆汁溶菌试验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构造：荚膜多糖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型特异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84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090080" y="1371240"/>
            <a:ext cx="7053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9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葡萄球菌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taphylococci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金黄色葡萄球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S.aureus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凝固酶阴性葡萄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链球菌属</a:t>
            </a:r>
            <a:r>
              <a:rPr b="1" i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treptococci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A</a:t>
            </a: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族链球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β-hemolytic S</a:t>
            </a:r>
            <a:r>
              <a:rPr b="0" i="1" lang="en-GB" sz="2400" spc="-1" strike="noStrike">
                <a:solidFill>
                  <a:srgbClr val="29297b"/>
                </a:solidFill>
                <a:latin typeface="Arial"/>
                <a:ea typeface="黑体"/>
              </a:rPr>
              <a:t>treptococcus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肺炎链球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Strept.pneumoniae</a:t>
            </a:r>
            <a:r>
              <a:rPr b="0" i="1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其他链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奈瑟菌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eisseria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黑体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淋病奈瑟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Neisseria gonorrhoeae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脑膜炎奈瑟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Neisseria meningitidis</a:t>
            </a:r>
            <a:r>
              <a:rPr b="0" i="1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P75图6-18"/>
          <p:cNvPicPr/>
          <p:nvPr/>
        </p:nvPicPr>
        <p:blipFill>
          <a:blip r:embed="rId1">
            <a:lum bright="36000"/>
          </a:blip>
          <a:srcRect l="0" t="23966" r="0" b="14875"/>
          <a:stretch/>
        </p:blipFill>
        <p:spPr>
          <a:xfrm>
            <a:off x="3348000" y="1123920"/>
            <a:ext cx="5791320" cy="32479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2"/>
          <p:cNvSpPr/>
          <p:nvPr/>
        </p:nvSpPr>
        <p:spPr>
          <a:xfrm>
            <a:off x="108000" y="1341360"/>
            <a:ext cx="3384360" cy="14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4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脐状菌落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α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溶血</a:t>
            </a:r>
            <a:endParaRPr b="0" lang="en-US" sz="32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95" name="Picture 7" descr="P75图6-19"/>
          <p:cNvPicPr/>
          <p:nvPr/>
        </p:nvPicPr>
        <p:blipFill>
          <a:blip r:embed="rId2">
            <a:lum bright="18000"/>
          </a:blip>
          <a:srcRect l="12733" t="0" r="7271" b="0"/>
          <a:stretch/>
        </p:blipFill>
        <p:spPr>
          <a:xfrm>
            <a:off x="5681520" y="3789360"/>
            <a:ext cx="3462480" cy="3068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脐状菌落"/>
          <p:cNvPicPr/>
          <p:nvPr/>
        </p:nvPicPr>
        <p:blipFill>
          <a:blip r:embed="rId3">
            <a:lum bright="24000"/>
          </a:blip>
          <a:stretch/>
        </p:blipFill>
        <p:spPr>
          <a:xfrm>
            <a:off x="36360" y="2852640"/>
            <a:ext cx="571500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81120" y="907920"/>
            <a:ext cx="601344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致病性与免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857240" y="1785960"/>
            <a:ext cx="54295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肺炎链球菌溶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6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致病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鼻咽部局部或全身抵抗力下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6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致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大叶性肺炎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典型性肺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脑膜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支气管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耳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8360" y="979200"/>
            <a:ext cx="738036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三节 奈瑟菌属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Rectangle 1026"/>
          <p:cNvSpPr/>
          <p:nvPr/>
        </p:nvSpPr>
        <p:spPr>
          <a:xfrm>
            <a:off x="396720" y="1773360"/>
            <a:ext cx="421344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淋病奈瑟菌</a:t>
            </a:r>
            <a:endParaRPr b="0" lang="en-US" sz="3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01" name="Rectangle 1027"/>
          <p:cNvSpPr/>
          <p:nvPr/>
        </p:nvSpPr>
        <p:spPr>
          <a:xfrm>
            <a:off x="857160" y="2500200"/>
            <a:ext cx="742968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一）主要生物学性状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形态染色结构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G-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肾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成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于中性粒细胞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培养特点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热血平板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巧克力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落露滴状或半透明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抵抗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极弱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03280" y="1082520"/>
            <a:ext cx="6337440" cy="6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致病性与免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50400" y="1928880"/>
            <a:ext cx="719316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3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原构造与致病物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脂多糖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膜蛋白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损伤中性粒细胞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ts val="43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外膜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型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ts val="43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gA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63320" y="979560"/>
            <a:ext cx="46278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所致疾病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403280" y="1917720"/>
            <a:ext cx="6337440" cy="45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是唯一宿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TD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淋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淋球菌性尿道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淋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副睾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子宫内膜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阴道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输卵管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播散性化脓性感染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败血症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0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淋球菌性结膜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脓漏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13120" y="833040"/>
            <a:ext cx="50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脑膜炎奈瑟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835280" y="1928520"/>
            <a:ext cx="5400720" cy="44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及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荚膜多糖抗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吞噬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脂多糖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致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流行性脑脊髓膜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1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化脓性感染的微生物学诊断原则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71360" y="1999800"/>
            <a:ext cx="698652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涂片染色镜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离培养鉴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毒性鉴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凝固酶试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毒素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体检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ASO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脑膜炎快速诊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S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同凝集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敏感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19280" y="83484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化脓性球菌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42960" y="1714680"/>
            <a:ext cx="785808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种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G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-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镜下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，染色性，排列，荚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体表面结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SP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T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菌毛，荚膜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侵袭性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凝固酶，透明质酸酶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gA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酶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毒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素，杀白细胞素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SST-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肠毒素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红疹毒素，内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染类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化脓性，毒素性，超敏反应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3640" y="1206360"/>
            <a:ext cx="6705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一节  葡萄球菌属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828360" y="2563560"/>
            <a:ext cx="7543800" cy="14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化脓性感染和败血症的最常见病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葡萄球菌EM图"/>
          <p:cNvPicPr/>
          <p:nvPr/>
        </p:nvPicPr>
        <p:blipFill>
          <a:blip r:embed="rId1"/>
          <a:stretch/>
        </p:blipFill>
        <p:spPr>
          <a:xfrm>
            <a:off x="0" y="785880"/>
            <a:ext cx="4343400" cy="33289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3880" y="4572000"/>
            <a:ext cx="302436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葡萄球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8" name="Picture 2" descr="葡萄球菌G"/>
          <p:cNvPicPr/>
          <p:nvPr/>
        </p:nvPicPr>
        <p:blipFill>
          <a:blip r:embed="rId2"/>
          <a:stretch/>
        </p:blipFill>
        <p:spPr>
          <a:xfrm>
            <a:off x="4114800" y="642960"/>
            <a:ext cx="5029200" cy="42591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36480" y="1093320"/>
            <a:ext cx="779328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主要生物学性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285560" y="1973160"/>
            <a:ext cx="6383160" cy="36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染色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+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球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簇状排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金黄色色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β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构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多糖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抵抗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易耐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5640" y="1143000"/>
            <a:ext cx="4419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分 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214280" y="2090520"/>
            <a:ext cx="6715440" cy="39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金黄色葡萄球菌  凝固酶阳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表皮葡萄球菌    凝固酶阴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腐生葡萄球菌    凝固酶阴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000080" y="2071800"/>
          <a:ext cx="7215120" cy="4143240"/>
        </p:xfrm>
        <a:graphic>
          <a:graphicData uri="http://schemas.openxmlformats.org/drawingml/2006/table">
            <a:tbl>
              <a:tblPr/>
              <a:tblGrid>
                <a:gridCol w="1801800"/>
                <a:gridCol w="1806480"/>
                <a:gridCol w="1805040"/>
                <a:gridCol w="180180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性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金葡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表皮葡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腐生葡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菌落色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金黄色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白色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白色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\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柠檬色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凝固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宋体"/>
                          <a:ea typeface="Tahoma"/>
                        </a:rPr>
                        <a:t>α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溶血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耐热核酸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A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蛋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分解甘露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致病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84"/>
          <p:cNvSpPr/>
          <p:nvPr/>
        </p:nvSpPr>
        <p:spPr>
          <a:xfrm>
            <a:off x="1000080" y="1171440"/>
            <a:ext cx="7070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三种葡萄球菌的主要性状</a:t>
            </a:r>
            <a:endParaRPr b="0" lang="en-US" sz="4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-90360" y="477720"/>
            <a:ext cx="18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2960" y="5029200"/>
            <a:ext cx="7858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表皮葡萄球菌和金黄色葡萄球菌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血琼脂平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7" name="Picture 10" descr="图像13-A-1"/>
          <p:cNvPicPr/>
          <p:nvPr/>
        </p:nvPicPr>
        <p:blipFill>
          <a:blip r:embed="rId1"/>
          <a:srcRect l="54460" t="23408" r="1980" b="23028"/>
          <a:stretch/>
        </p:blipFill>
        <p:spPr>
          <a:xfrm>
            <a:off x="4495680" y="380880"/>
            <a:ext cx="4648320" cy="4338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staph"/>
          <p:cNvPicPr/>
          <p:nvPr/>
        </p:nvPicPr>
        <p:blipFill>
          <a:blip r:embed="rId2"/>
          <a:srcRect l="22960" t="16552" r="24145" b="0"/>
          <a:stretch/>
        </p:blipFill>
        <p:spPr>
          <a:xfrm>
            <a:off x="0" y="380880"/>
            <a:ext cx="4452840" cy="44960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图像13-A-2"/>
          <p:cNvPicPr/>
          <p:nvPr/>
        </p:nvPicPr>
        <p:blipFill>
          <a:blip r:embed="rId1">
            <a:lum bright="24000"/>
          </a:blip>
          <a:srcRect l="3333" t="18577" r="4999" b="4288"/>
          <a:stretch/>
        </p:blipFill>
        <p:spPr>
          <a:xfrm>
            <a:off x="714240" y="1143000"/>
            <a:ext cx="7788240" cy="38178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304920" y="507204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表皮葡萄球菌和金黄色葡萄球菌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营养琼脂平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正版用户</cp:lastModifiedBy>
  <dcterms:modified xsi:type="dcterms:W3CDTF">2014-05-26T01:36:28Z</dcterms:modified>
  <cp:revision>5</cp:revision>
  <dc:subject/>
  <dc:title>病原性球菌 (pathogenic coccus)  化脓性球菌 (pyogenic coccus)</dc:title>
</cp:coreProperties>
</file>